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38E6-621B-4A3A-969B-7C61FAAC5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2E30-A8B9-437A-B34D-F6051270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9E64-00C4-487C-BC61-8D87BCF20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951E-A231-4489-B1A8-614FBC0D2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A1B9-A081-4C1C-B30D-29390E2F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9047-1480-4970-AAB3-1D2127FD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BE5E-8124-4700-8105-5917B4D4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0F03-BED3-479A-8D82-9D84D18E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E10C-4FCF-48C0-BF7C-2C9A6D9F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46FE-D963-487F-881A-B94AD5DB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B6BA-91DA-472F-8BA3-4EAD1013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A0C8-0BF7-47BA-8C5B-5AF99237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9011-8937-404C-BC6A-C2E86DE184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Jonathan ree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1T21:26:36Z</dcterms:modified>
  <cp:revision>94</cp:revision>
  <dc:subject/>
  <dc:title>Ancient Greece</dc:title>
</cp:coreProperties>
</file>